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D5D-A9EA-4759-AD6B-A03098EC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E1C-11A4-4377-AC7B-99B3FD82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63BC-D1C0-49F9-8380-C2C91B2C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09FD-4EDF-4EE3-9A11-4D0644F9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3242-93F0-470A-A3B8-1A85303D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3CCE-B056-4A2A-ABCA-81018A19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F3C4-5B96-4CB0-A303-1F5D1F42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1B42-8363-4841-9F55-61045F0C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3BBE-1C02-423B-9751-595C4A15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FF71-5BD3-4F77-AC9C-DB7D1A6B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4B9A-05CD-45FE-908C-ABBF6CFF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257-B9FF-4CD3-B148-0E375059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7752-8CF7-4FCF-BD0E-DE2C58DF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EA56-4634-4D46-9E67-8953BF72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9851-5DFB-47E5-99E0-50729208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1155-5B1C-4FA6-97F8-B4014986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FE82-6664-4963-9DE1-09E3110A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130-2DAF-4880-81FC-75BA8049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A39A-C2A6-4BED-B282-EE4F7E9F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64F-845E-4730-B7A2-61D3760C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FA8-6AA4-4F89-94E7-FC6F8A9F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6BA2-AB97-449E-BB36-BC2D9935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9844-7EA5-4AD6-A3A6-68FBB639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652-80C3-4514-87FC-36E44024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CDCE-99A5-4C5C-B1DD-B50D02149AD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8461-8A57-4AF9-AE05-9077AB54B53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918560" cy="30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учно-исследовательская работа на тему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Виды и способы психологического воздействия на человека».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Выполнила ученица 10 «А» класс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                                      </a:t>
            </a: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Чикина Надежд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                                                  </a:t>
            </a: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Научные руководители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учитель биологи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                                                          </a:t>
            </a: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Дроздова Ольга Николаев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                                       </a:t>
            </a: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педагог психолог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                                                                    </a:t>
            </a: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Пугач Ольга Анатольев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Положительные результаты манипуляций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6144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Отрицательные  результаты манипуляций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05636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Стили поведения в жизненных ситуациях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9640" y="1467000"/>
            <a:ext cx="79930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Социальные статусы манипулятор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0567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Социальные статусы манипулируемых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47640" y="1773360"/>
          <a:ext cx="633744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773360"/>
                    <a:ext cx="63374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Социальные статусы людей, в разных жизненных         обстоятельствах ведущих себя по-разному: то играют роль манипулятора, то сами позволяют манипулировать собой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619280" y="1916280"/>
          <a:ext cx="6048360" cy="41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16280"/>
                    <a:ext cx="60483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5267160" cy="3522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rcRect l="19494" t="0" r="16311" b="0"/>
          <a:stretch/>
        </p:blipFill>
        <p:spPr>
          <a:xfrm>
            <a:off x="5724360" y="1197000"/>
            <a:ext cx="3194280" cy="49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Спасибо за внимание!!!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20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492360" y="1628640"/>
            <a:ext cx="5435640" cy="3614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2892240" cy="45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Актуальность исследов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1. Объект исследовани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Учащиеся 10 – 11 классов (50 человек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2. Предмет исследовани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Виды и способы психологического воздействия на человек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3. Методы исследовани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Анализ литературных источников, анкетирование, беседы, использование программного комплекса «Социометрия»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Цель исследования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знакомиться с основными видами и способами психологического воздействия на человека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ыявить отношение учащихся к процессу манипуляции людьми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сследовать личностные особенности манипуляторов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становить закономерность изменения социального статуса манипулятора в групп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Манипуляц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- вид психологического воздействия, искусное исполнение которого ведет к скрытому возбуждению у другого человека намерений,  часто не совпадающих с его актуально существующими желаниям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156280" y="1600200"/>
            <a:ext cx="302076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Источники манипуля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отребно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або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собенности психи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авила и стереотип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3702240" cy="47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иды манипуля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87280" y="1773360"/>
            <a:ext cx="7488720" cy="4559040"/>
            <a:chOff x="1187280" y="1773360"/>
            <a:chExt cx="7488720" cy="4559040"/>
          </a:xfrm>
        </p:grpSpPr>
        <p:cxnSp>
          <p:nvCxnSpPr>
            <p:cNvPr id="131" name="_s80921"/>
            <p:cNvCxnSpPr>
              <a:stCxn id="132" idx="0"/>
              <a:endCxn id="133" idx="2"/>
            </p:cNvCxnSpPr>
            <p:nvPr/>
          </p:nvCxnSpPr>
          <p:spPr>
            <a:xfrm flipV="1">
              <a:off x="4610880" y="2226600"/>
              <a:ext cx="1800" cy="32900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4" name="_s80917"/>
            <p:cNvCxnSpPr>
              <a:stCxn id="135" idx="0"/>
              <a:endCxn id="133" idx="2"/>
            </p:cNvCxnSpPr>
            <p:nvPr/>
          </p:nvCxnSpPr>
          <p:spPr>
            <a:xfrm flipV="1" rot="16200000">
              <a:off x="4637880" y="2199240"/>
              <a:ext cx="2570760" cy="2625480"/>
            </a:xfrm>
            <a:prstGeom prst="bentConnector3">
              <a:avLst>
                <a:gd name="adj1" fmla="val 4439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6" name="_s80915"/>
            <p:cNvCxnSpPr>
              <a:stCxn id="137" idx="0"/>
              <a:endCxn id="133" idx="2"/>
            </p:cNvCxnSpPr>
            <p:nvPr/>
          </p:nvCxnSpPr>
          <p:spPr>
            <a:xfrm flipV="1" rot="16200000">
              <a:off x="5088960" y="1748520"/>
              <a:ext cx="1346400" cy="2302920"/>
            </a:xfrm>
            <a:prstGeom prst="bentConnector3">
              <a:avLst>
                <a:gd name="adj1" fmla="val 8478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8" name="_s80913"/>
            <p:cNvCxnSpPr>
              <a:stCxn id="139" idx="0"/>
              <a:endCxn id="133" idx="2"/>
            </p:cNvCxnSpPr>
            <p:nvPr/>
          </p:nvCxnSpPr>
          <p:spPr>
            <a:xfrm flipV="1" rot="16200000">
              <a:off x="5610960" y="1226160"/>
              <a:ext cx="338760" cy="2339280"/>
            </a:xfrm>
            <a:prstGeom prst="bentConnector3">
              <a:avLst>
                <a:gd name="adj1" fmla="val 33723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0" name="_s80909"/>
            <p:cNvCxnSpPr>
              <a:stCxn id="141" idx="0"/>
              <a:endCxn id="133" idx="2"/>
            </p:cNvCxnSpPr>
            <p:nvPr/>
          </p:nvCxnSpPr>
          <p:spPr>
            <a:xfrm flipH="1" flipV="1" rot="5400000">
              <a:off x="2117880" y="2303640"/>
              <a:ext cx="2570760" cy="2417040"/>
            </a:xfrm>
            <a:prstGeom prst="bentConnector3">
              <a:avLst>
                <a:gd name="adj1" fmla="val 4439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2" name="_s80908"/>
            <p:cNvCxnSpPr>
              <a:stCxn id="143" idx="0"/>
              <a:endCxn id="133" idx="2"/>
            </p:cNvCxnSpPr>
            <p:nvPr/>
          </p:nvCxnSpPr>
          <p:spPr>
            <a:xfrm flipH="1" flipV="1" rot="5400000">
              <a:off x="2863800" y="1825920"/>
              <a:ext cx="1346400" cy="2148120"/>
            </a:xfrm>
            <a:prstGeom prst="bentConnector3">
              <a:avLst>
                <a:gd name="adj1" fmla="val 8478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4" name="_s80907"/>
            <p:cNvCxnSpPr>
              <a:stCxn id="145" idx="0"/>
              <a:endCxn id="133" idx="2"/>
            </p:cNvCxnSpPr>
            <p:nvPr/>
          </p:nvCxnSpPr>
          <p:spPr>
            <a:xfrm flipH="1" flipV="1" rot="5400000">
              <a:off x="3378600" y="1332360"/>
              <a:ext cx="338760" cy="2127600"/>
            </a:xfrm>
            <a:prstGeom prst="bentConnector3">
              <a:avLst>
                <a:gd name="adj1" fmla="val 33723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33" name="_s80903"/>
            <p:cNvSpPr/>
            <p:nvPr/>
          </p:nvSpPr>
          <p:spPr>
            <a:xfrm>
              <a:off x="3492720" y="1773360"/>
              <a:ext cx="2238120" cy="4539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Verdana"/>
                </a:rPr>
                <a:t>Виды манипуляции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_s80904"/>
            <p:cNvSpPr/>
            <p:nvPr/>
          </p:nvSpPr>
          <p:spPr>
            <a:xfrm>
              <a:off x="1548000" y="2565360"/>
              <a:ext cx="1870920" cy="7923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Verdana"/>
                </a:rPr>
                <a:t>политические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_s80905"/>
            <p:cNvSpPr/>
            <p:nvPr/>
          </p:nvSpPr>
          <p:spPr>
            <a:xfrm>
              <a:off x="1692360" y="3573360"/>
              <a:ext cx="1542240" cy="863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Verdana"/>
                </a:rPr>
                <a:t>торговые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_s80906"/>
            <p:cNvSpPr/>
            <p:nvPr/>
          </p:nvSpPr>
          <p:spPr>
            <a:xfrm>
              <a:off x="1187280" y="4797360"/>
              <a:ext cx="2016000" cy="11527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Verdana"/>
                </a:rPr>
                <a:t>артистические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_s80912"/>
            <p:cNvSpPr/>
            <p:nvPr/>
          </p:nvSpPr>
          <p:spPr>
            <a:xfrm>
              <a:off x="6084360" y="2565360"/>
              <a:ext cx="1728720" cy="8161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Verdana"/>
                </a:rPr>
                <a:t>деловые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_s80914"/>
            <p:cNvSpPr/>
            <p:nvPr/>
          </p:nvSpPr>
          <p:spPr>
            <a:xfrm>
              <a:off x="6156000" y="3573360"/>
              <a:ext cx="1513440" cy="863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Verdana"/>
                </a:rPr>
                <a:t>рекламные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_s80916"/>
            <p:cNvSpPr/>
            <p:nvPr/>
          </p:nvSpPr>
          <p:spPr>
            <a:xfrm>
              <a:off x="5796360" y="4797360"/>
              <a:ext cx="2879640" cy="9367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Verdana"/>
                </a:rPr>
                <a:t>Детско-родительские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_s80920"/>
            <p:cNvSpPr/>
            <p:nvPr/>
          </p:nvSpPr>
          <p:spPr>
            <a:xfrm>
              <a:off x="3492720" y="5516640"/>
              <a:ext cx="2238120" cy="8157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Verdana"/>
                </a:rPr>
                <a:t>школьные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иды защи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68360" y="2133720"/>
            <a:ext cx="7848720" cy="4392360"/>
            <a:chOff x="468360" y="2133720"/>
            <a:chExt cx="7848720" cy="4392360"/>
          </a:xfrm>
        </p:grpSpPr>
        <p:cxnSp>
          <p:nvCxnSpPr>
            <p:cNvPr id="148" name="_s82961"/>
            <p:cNvCxnSpPr>
              <a:stCxn id="149" idx="0"/>
              <a:endCxn id="150" idx="2"/>
            </p:cNvCxnSpPr>
            <p:nvPr/>
          </p:nvCxnSpPr>
          <p:spPr>
            <a:xfrm flipV="1">
              <a:off x="4537080" y="2788920"/>
              <a:ext cx="2160" cy="2088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1" name="_s82957"/>
            <p:cNvCxnSpPr>
              <a:stCxn id="152" idx="0"/>
              <a:endCxn id="150" idx="2"/>
            </p:cNvCxnSpPr>
            <p:nvPr/>
          </p:nvCxnSpPr>
          <p:spPr>
            <a:xfrm flipV="1" rot="16200000">
              <a:off x="5177160" y="2148120"/>
              <a:ext cx="915120" cy="2196000"/>
            </a:xfrm>
            <a:prstGeom prst="bentConnector3">
              <a:avLst>
                <a:gd name="adj1" fmla="val 12475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3" name="_s82956"/>
            <p:cNvCxnSpPr>
              <a:stCxn id="154" idx="0"/>
              <a:endCxn id="150" idx="2"/>
            </p:cNvCxnSpPr>
            <p:nvPr/>
          </p:nvCxnSpPr>
          <p:spPr>
            <a:xfrm flipV="1">
              <a:off x="4537080" y="2788560"/>
              <a:ext cx="2160" cy="23691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5" name="_s82955"/>
            <p:cNvCxnSpPr>
              <a:stCxn id="156" idx="0"/>
              <a:endCxn id="150" idx="2"/>
            </p:cNvCxnSpPr>
            <p:nvPr/>
          </p:nvCxnSpPr>
          <p:spPr>
            <a:xfrm flipH="1" flipV="1" rot="5400000">
              <a:off x="2795400" y="1974240"/>
              <a:ext cx="927720" cy="2556720"/>
            </a:xfrm>
            <a:prstGeom prst="bentConnector3">
              <a:avLst>
                <a:gd name="adj1" fmla="val 12305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50" name="_s82951"/>
            <p:cNvSpPr/>
            <p:nvPr/>
          </p:nvSpPr>
          <p:spPr>
            <a:xfrm>
              <a:off x="1692360" y="2133720"/>
              <a:ext cx="5688000" cy="6555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Verdana"/>
                </a:rPr>
                <a:t>Не давайте информацию о себе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_s82952"/>
            <p:cNvSpPr/>
            <p:nvPr/>
          </p:nvSpPr>
          <p:spPr>
            <a:xfrm>
              <a:off x="468360" y="3716280"/>
              <a:ext cx="3024000" cy="108108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Verdana"/>
                </a:rPr>
                <a:t>Пассивная защита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_s82953"/>
            <p:cNvSpPr/>
            <p:nvPr/>
          </p:nvSpPr>
          <p:spPr>
            <a:xfrm>
              <a:off x="3203640" y="5157720"/>
              <a:ext cx="2665440" cy="13683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Verdana"/>
                </a:rPr>
                <a:t>Активная защита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_s82954"/>
            <p:cNvSpPr/>
            <p:nvPr/>
          </p:nvSpPr>
          <p:spPr>
            <a:xfrm>
              <a:off x="5148360" y="3703680"/>
              <a:ext cx="3168720" cy="109368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Verdana"/>
                </a:rPr>
                <a:t>Контрманипуляция</a:t>
              </a:r>
              <a:r>
                <a:rPr b="0" lang="ru-RU" sz="18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_s82960"/>
            <p:cNvSpPr/>
            <p:nvPr/>
          </p:nvSpPr>
          <p:spPr>
            <a:xfrm>
              <a:off x="1476360" y="2997360"/>
              <a:ext cx="6120000" cy="4777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Verdana"/>
                </a:rPr>
                <a:t>Осознайте, что вами манипулируют</a:t>
              </a:r>
              <a:r>
                <a:rPr b="0" lang="ru-RU" sz="2400" spc="-1" strike="noStrike">
                  <a:solidFill>
                    <a:srgbClr val="ffcc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Отношение учащихся к манипуляциям в жизн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41672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</cp:lastModifiedBy>
  <dcterms:modified xsi:type="dcterms:W3CDTF">2010-04-07T12:25:14Z</dcterms:modified>
  <cp:revision>10</cp:revision>
  <dc:subject/>
  <dc:title>PowerPoint Presentation</dc:title>
</cp:coreProperties>
</file>